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5224B-9FC6-4C45-B103-99B68BDFF0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3DC-C6B0-4FF6-A5B6-D61E69C7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75D-E620-4A2C-A655-94EF312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96C-33C8-404F-A890-72E803B8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3AF-FF38-477E-ADCE-C37E91CC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903-25B6-4859-8E6C-D5C36951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D1B-FCEB-480B-A4D5-850CF51F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30E-9594-44B8-99D9-951A5B4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E47-CE61-4398-970E-639836D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773-567B-4354-8449-7FC0A721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807-CC9C-49C3-9CBE-2992B0F8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49E-0C07-48C8-90FA-49FD80DF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C7D-C5D8-4464-94EC-07865D1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169D2-6FCF-461D-A560-AEFFE172BA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9520" y="163440"/>
            <a:ext cx="9107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21:00:29Z</dcterms:created>
  <dc:creator/>
  <dc:description/>
  <dc:language>en-US</dc:language>
  <cp:lastModifiedBy/>
  <cp:revision>1</cp:revision>
  <dc:subject/>
  <dc:title/>
</cp:coreProperties>
</file>